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539F-85D9-40D6-9AA8-035D45368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403-E89A-47CA-8639-976852BF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82E-6BD1-4B8A-9364-57FB3C7F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E12-56B5-449C-82B1-B51887F4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507-F7D8-4B31-9BE2-5B1DDDBC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C01-064F-4F6B-AF2C-1B2EFA93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367-0F7A-4C8D-BC64-6AB13862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465-2F40-4BCD-8519-007C2963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CBD-DCBD-4D9F-BE9A-F4FA7697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545-F34C-4A06-A43C-3AA290C3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DB7-C985-4B4F-A303-B20CBFBF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C6F-A4DE-4B1E-BCC7-B6B2ECD5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E7B-891D-4F8A-8DF6-B259C72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2ADF-4719-47D4-8B6C-87DF1C41F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nitrogenous bases identified by 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X-ray diffraction images of DNA that suggested its double helix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2nm, one turn 3.4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formation from Chargaff and Franklin’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a model of DNA with a double helix of 2 anti-parallel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2-04-17T17:03:05Z</dcterms:modified>
  <cp:revision>80</cp:revision>
  <dc:subject/>
  <dc:title>Molecular Genetics</dc:title>
</cp:coreProperties>
</file>